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4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9.gif" ContentType="image/gif"/>
  <Override PartName="/ppt/media/image30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622-6FF4-4F4A-B591-C26CC225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E8D-E096-46AD-BD24-369F38C6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AE6-E068-4C89-AC06-DFCEC935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AA8-95E6-4E9E-8E87-344C676C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212-4BFD-48B8-9AC8-713DEFA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81B-0365-4998-B95A-83BC4AE5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9C0-01C1-44D9-B13C-821561E2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157-B685-4F01-9811-09275D1A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AF9-3764-41FC-B64E-ACD3327A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6FA-85BE-43B6-A343-8AF6E94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696-E2A0-48C8-BDBE-1DCA878F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A45-3D76-4713-907C-944A0437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17FD-7A56-4B9D-B58B-D6B63848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4005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сенние измен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ироде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1341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резент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2565360"/>
            <a:ext cx="61722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уроку окружающего ми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опасности могут подстерегать нас вес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7334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327960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16720" y="3789360"/>
            <a:ext cx="2208240" cy="2658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3314520" cy="2436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226120" y="1600200"/>
            <a:ext cx="288288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9640" y="404640"/>
            <a:ext cx="813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ссовый прилёт птиц. Гнездова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3887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яют (меняют шубку на летню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ыпаются от зимнего сна: медведи, барсуки, ежи, бурунду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ногих зверей появляются детён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476280"/>
            <a:ext cx="6792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встречают весну звери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916360" cy="218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59236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266364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енние изменения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97196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3"/>
          <p:cNvSpPr/>
          <p:nvPr/>
        </p:nvSpPr>
        <p:spPr>
          <a:xfrm>
            <a:off x="3000240" y="14288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Солнце выше над горизонтом, чем зи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3000240" y="27860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Дни стали длиннее; пот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571680" y="4071960"/>
            <a:ext cx="371448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не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На реках 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ттаивает поч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5143680" y="4071960"/>
            <a:ext cx="364320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Набухают п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яются ли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Цветение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ение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Возвращение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Изменения в жизни з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10"/>
          <p:cNvCxnSpPr/>
          <p:nvPr/>
        </p:nvCxnSpPr>
        <p:spPr>
          <a:xfrm flipH="1">
            <a:off x="4642560" y="2285640"/>
            <a:ext cx="2520" cy="500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2499840" y="3642120"/>
            <a:ext cx="57240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>
            <a:off x="6143400" y="3642840"/>
            <a:ext cx="68004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8" name="Прямая со стрелкой 21"/>
          <p:cNvCxnSpPr/>
          <p:nvPr/>
        </p:nvCxnSpPr>
        <p:spPr>
          <a:xfrm>
            <a:off x="4286160" y="5428800"/>
            <a:ext cx="85824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5000400" cy="37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771640" y="189000"/>
            <a:ext cx="3429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на дом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24280"/>
            <a:ext cx="6096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ить кроссворд на тему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риметы весны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1628640"/>
            <a:ext cx="69120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добиться успеха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изучении окружающего мира, 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 научиться открывать секреты природы.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004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21080" cy="301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2480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6732720" y="37162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пр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948360" y="2565360"/>
            <a:ext cx="800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87640" y="436572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47640" y="1989000"/>
            <a:ext cx="2514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на света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4941720"/>
            <a:ext cx="2495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на вод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9280" y="549360"/>
            <a:ext cx="34290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лёной трав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95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4:10:05Z</dcterms:created>
  <dc:creator>Sergey</dc:creator>
  <dc:description/>
  <dc:language>en-US</dc:language>
  <cp:lastModifiedBy>Sergey</cp:lastModifiedBy>
  <dcterms:modified xsi:type="dcterms:W3CDTF">2013-03-17T15:31:06Z</dcterms:modified>
  <cp:revision>49</cp:revision>
  <dc:subject/>
  <dc:title>Слайд 1</dc:title>
</cp:coreProperties>
</file>